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136-994D-498E-A9C8-3DBE9B94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3CA-4ECA-481F-B84E-8AB7A95C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782-A81B-46A5-9A19-B7599CBC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667-DFC1-48BD-92E6-691C4478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925-F16A-43B6-921D-328B9EA6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27C-EA84-4012-9A97-0B6766E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840-C6E0-404A-AB44-C10F9E22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10C-6A19-48E9-9290-55545195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6CA-6F55-48EA-9DDF-B3BD0F3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FB5-9A48-4CB3-8A08-7ED9C593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425-EE9D-4B9B-92A8-A9CDA52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8FB-9DD6-436D-9F81-7C0BC5B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EA7C-4107-4B72-BC65-1916957A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30492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arker Felt"/>
              </a:rPr>
              <a:t>Unit 2-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1066680"/>
            <a:ext cx="18288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Shawn Zh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en S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ie Sokol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a Omelyanenk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3187440" cy="322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343400" y="5943600"/>
            <a:ext cx="2060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nimal Cells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2362320"/>
            <a:ext cx="232092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Plant Ce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9320" y="1905120"/>
            <a:ext cx="15238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Mitochondr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91320" y="5181480"/>
            <a:ext cx="297468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Marker Felt"/>
              </a:rPr>
              <a:t>Flagell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5867280"/>
            <a:ext cx="178776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itosi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62720" y="4114800"/>
            <a:ext cx="2654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tive Tran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2933640" y="3161520"/>
            <a:ext cx="4380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Osmos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2666880"/>
            <a:ext cx="354024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Marker Felt"/>
              </a:rPr>
              <a:t>Prokaryote vs. Eukaryot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Marker Felt"/>
              <a:ea typeface="Marker Felt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2952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0199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r Felt"/>
              </a:rPr>
              <a:t>cell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60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ell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86200"/>
            <a:ext cx="16765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8098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0384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267080"/>
            <a:ext cx="86976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57200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548" y="105"/>
                </a:moveTo>
                <a:cubicBezTo>
                  <a:pt x="487" y="84"/>
                  <a:pt x="487" y="33"/>
                  <a:pt x="417" y="9"/>
                </a:cubicBezTo>
                <a:cubicBezTo>
                  <a:pt x="396" y="12"/>
                  <a:pt x="374" y="8"/>
                  <a:pt x="356" y="18"/>
                </a:cubicBezTo>
                <a:cubicBezTo>
                  <a:pt x="347" y="22"/>
                  <a:pt x="352" y="36"/>
                  <a:pt x="348" y="44"/>
                </a:cubicBezTo>
                <a:cubicBezTo>
                  <a:pt x="318" y="97"/>
                  <a:pt x="324" y="88"/>
                  <a:pt x="287" y="113"/>
                </a:cubicBezTo>
                <a:cubicBezTo>
                  <a:pt x="263" y="110"/>
                  <a:pt x="238" y="114"/>
                  <a:pt x="217" y="105"/>
                </a:cubicBezTo>
                <a:cubicBezTo>
                  <a:pt x="194" y="95"/>
                  <a:pt x="214" y="54"/>
                  <a:pt x="200" y="35"/>
                </a:cubicBezTo>
                <a:cubicBezTo>
                  <a:pt x="182" y="10"/>
                  <a:pt x="123" y="9"/>
                  <a:pt x="96" y="0"/>
                </a:cubicBezTo>
                <a:cubicBezTo>
                  <a:pt x="66" y="5"/>
                  <a:pt x="30" y="18"/>
                  <a:pt x="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14800"/>
            <a:ext cx="2286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30680" y="4362480"/>
            <a:ext cx="441000" cy="276120"/>
          </a:xfrm>
          <a:custGeom>
            <a:avLst/>
            <a:gdLst/>
            <a:ahLst/>
            <a:rect l="l" t="t" r="r" b="b"/>
            <a:pathLst>
              <a:path w="278" h="174">
                <a:moveTo>
                  <a:pt x="278" y="9"/>
                </a:moveTo>
                <a:cubicBezTo>
                  <a:pt x="195" y="62"/>
                  <a:pt x="87" y="30"/>
                  <a:pt x="0" y="0"/>
                </a:cubicBezTo>
                <a:cubicBezTo>
                  <a:pt x="2" y="11"/>
                  <a:pt x="1" y="25"/>
                  <a:pt x="8" y="35"/>
                </a:cubicBezTo>
                <a:cubicBezTo>
                  <a:pt x="19" y="52"/>
                  <a:pt x="40" y="60"/>
                  <a:pt x="52" y="78"/>
                </a:cubicBezTo>
                <a:cubicBezTo>
                  <a:pt x="65" y="97"/>
                  <a:pt x="68" y="107"/>
                  <a:pt x="87" y="122"/>
                </a:cubicBezTo>
                <a:cubicBezTo>
                  <a:pt x="151" y="173"/>
                  <a:pt x="80" y="107"/>
                  <a:pt x="130" y="157"/>
                </a:cubicBezTo>
                <a:cubicBezTo>
                  <a:pt x="135" y="162"/>
                  <a:pt x="148" y="174"/>
                  <a:pt x="148" y="174"/>
                </a:cubicBezTo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0:29:19Z</dcterms:created>
  <dc:creator>Ryan  Sokoloff</dc:creator>
  <dc:description/>
  <dc:language>en-US</dc:language>
  <cp:lastModifiedBy>Ryan  Sokoloff</cp:lastModifiedBy>
  <dcterms:modified xsi:type="dcterms:W3CDTF">2009-01-21T21:07:45Z</dcterms:modified>
  <cp:revision>2</cp:revision>
  <dc:subject/>
  <dc:title>PowerPoint Presentation</dc:title>
</cp:coreProperties>
</file>