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42F-493C-49B4-AFF0-B9AF506E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B5C-EA88-47DE-83BF-DE49E172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5E99-3346-412E-A637-46F845BC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145F-26FB-4E2C-A808-ED1C56C2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2A82-6AEC-44EC-8212-91F7F543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4A46-C8DE-44A1-A42B-D98D8D2D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A4DA-CD6F-40A3-8ED4-59DE7A41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C597-FFC8-4BF9-935F-B4A759D0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258E-EDDB-4898-AA67-A1DEA33D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C36-B112-4F6C-8C42-33A078AB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C82A-A077-47B7-9E64-0C311526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9A89-9F97-48DB-A5D8-BF696AEB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B5CB-47F8-4644-8A6B-7A19A41E0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19520" y="30492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Unit 2- Ce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1066680"/>
            <a:ext cx="18288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Shawn Zha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en Sam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ie Sokolo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a Omelyanenk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2590920"/>
            <a:ext cx="3187440" cy="3220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343400" y="5943600"/>
            <a:ext cx="206064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Animal Cells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410080" y="2362320"/>
            <a:ext cx="232092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Plant Cel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19320" y="1905120"/>
            <a:ext cx="152388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Marker Felt"/>
              </a:rPr>
              <a:t>Mitochondri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Marker Felt"/>
              <a:ea typeface="Marker Fel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791320" y="5181480"/>
            <a:ext cx="2974680" cy="4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Marker Felt"/>
              </a:rPr>
              <a:t>Flagell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Marker Felt"/>
              <a:ea typeface="Marker Fel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95280" y="5867280"/>
            <a:ext cx="178776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tosi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562720" y="4114800"/>
            <a:ext cx="265428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ctive Transpo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 rot="5400000">
            <a:off x="2933640" y="3161520"/>
            <a:ext cx="43801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Osmosi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57800" y="2666880"/>
            <a:ext cx="3540240" cy="139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Marker Felt"/>
              </a:rPr>
              <a:t>Prokaryote vs. Eukaryot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Marker Felt"/>
              <a:ea typeface="Marker Felt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12952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lasma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60199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cell orga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60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ell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886200"/>
            <a:ext cx="16765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809880"/>
            <a:ext cx="86976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548" y="105"/>
                </a:moveTo>
                <a:cubicBezTo>
                  <a:pt x="487" y="84"/>
                  <a:pt x="487" y="33"/>
                  <a:pt x="417" y="9"/>
                </a:cubicBezTo>
                <a:cubicBezTo>
                  <a:pt x="396" y="12"/>
                  <a:pt x="374" y="8"/>
                  <a:pt x="356" y="18"/>
                </a:cubicBezTo>
                <a:cubicBezTo>
                  <a:pt x="347" y="22"/>
                  <a:pt x="352" y="36"/>
                  <a:pt x="348" y="44"/>
                </a:cubicBezTo>
                <a:cubicBezTo>
                  <a:pt x="318" y="97"/>
                  <a:pt x="324" y="88"/>
                  <a:pt x="287" y="113"/>
                </a:cubicBezTo>
                <a:cubicBezTo>
                  <a:pt x="263" y="110"/>
                  <a:pt x="238" y="114"/>
                  <a:pt x="217" y="105"/>
                </a:cubicBezTo>
                <a:cubicBezTo>
                  <a:pt x="194" y="95"/>
                  <a:pt x="214" y="54"/>
                  <a:pt x="200" y="35"/>
                </a:cubicBezTo>
                <a:cubicBezTo>
                  <a:pt x="182" y="10"/>
                  <a:pt x="123" y="9"/>
                  <a:pt x="96" y="0"/>
                </a:cubicBezTo>
                <a:cubicBezTo>
                  <a:pt x="66" y="5"/>
                  <a:pt x="30" y="18"/>
                  <a:pt x="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4038480"/>
            <a:ext cx="86976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548" y="105"/>
                </a:moveTo>
                <a:cubicBezTo>
                  <a:pt x="487" y="84"/>
                  <a:pt x="487" y="33"/>
                  <a:pt x="417" y="9"/>
                </a:cubicBezTo>
                <a:cubicBezTo>
                  <a:pt x="396" y="12"/>
                  <a:pt x="374" y="8"/>
                  <a:pt x="356" y="18"/>
                </a:cubicBezTo>
                <a:cubicBezTo>
                  <a:pt x="347" y="22"/>
                  <a:pt x="352" y="36"/>
                  <a:pt x="348" y="44"/>
                </a:cubicBezTo>
                <a:cubicBezTo>
                  <a:pt x="318" y="97"/>
                  <a:pt x="324" y="88"/>
                  <a:pt x="287" y="113"/>
                </a:cubicBezTo>
                <a:cubicBezTo>
                  <a:pt x="263" y="110"/>
                  <a:pt x="238" y="114"/>
                  <a:pt x="217" y="105"/>
                </a:cubicBezTo>
                <a:cubicBezTo>
                  <a:pt x="194" y="95"/>
                  <a:pt x="214" y="54"/>
                  <a:pt x="200" y="35"/>
                </a:cubicBezTo>
                <a:cubicBezTo>
                  <a:pt x="182" y="10"/>
                  <a:pt x="123" y="9"/>
                  <a:pt x="96" y="0"/>
                </a:cubicBezTo>
                <a:cubicBezTo>
                  <a:pt x="66" y="5"/>
                  <a:pt x="30" y="18"/>
                  <a:pt x="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267080"/>
            <a:ext cx="86976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548" y="105"/>
                </a:moveTo>
                <a:cubicBezTo>
                  <a:pt x="487" y="84"/>
                  <a:pt x="487" y="33"/>
                  <a:pt x="417" y="9"/>
                </a:cubicBezTo>
                <a:cubicBezTo>
                  <a:pt x="396" y="12"/>
                  <a:pt x="374" y="8"/>
                  <a:pt x="356" y="18"/>
                </a:cubicBezTo>
                <a:cubicBezTo>
                  <a:pt x="347" y="22"/>
                  <a:pt x="352" y="36"/>
                  <a:pt x="348" y="44"/>
                </a:cubicBezTo>
                <a:cubicBezTo>
                  <a:pt x="318" y="97"/>
                  <a:pt x="324" y="88"/>
                  <a:pt x="287" y="113"/>
                </a:cubicBezTo>
                <a:cubicBezTo>
                  <a:pt x="263" y="110"/>
                  <a:pt x="238" y="114"/>
                  <a:pt x="217" y="105"/>
                </a:cubicBezTo>
                <a:cubicBezTo>
                  <a:pt x="194" y="95"/>
                  <a:pt x="214" y="54"/>
                  <a:pt x="200" y="35"/>
                </a:cubicBezTo>
                <a:cubicBezTo>
                  <a:pt x="182" y="10"/>
                  <a:pt x="123" y="9"/>
                  <a:pt x="96" y="0"/>
                </a:cubicBezTo>
                <a:cubicBezTo>
                  <a:pt x="66" y="5"/>
                  <a:pt x="30" y="18"/>
                  <a:pt x="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572000"/>
            <a:ext cx="87012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548" y="105"/>
                </a:moveTo>
                <a:cubicBezTo>
                  <a:pt x="487" y="84"/>
                  <a:pt x="487" y="33"/>
                  <a:pt x="417" y="9"/>
                </a:cubicBezTo>
                <a:cubicBezTo>
                  <a:pt x="396" y="12"/>
                  <a:pt x="374" y="8"/>
                  <a:pt x="356" y="18"/>
                </a:cubicBezTo>
                <a:cubicBezTo>
                  <a:pt x="347" y="22"/>
                  <a:pt x="352" y="36"/>
                  <a:pt x="348" y="44"/>
                </a:cubicBezTo>
                <a:cubicBezTo>
                  <a:pt x="318" y="97"/>
                  <a:pt x="324" y="88"/>
                  <a:pt x="287" y="113"/>
                </a:cubicBezTo>
                <a:cubicBezTo>
                  <a:pt x="263" y="110"/>
                  <a:pt x="238" y="114"/>
                  <a:pt x="217" y="105"/>
                </a:cubicBezTo>
                <a:cubicBezTo>
                  <a:pt x="194" y="95"/>
                  <a:pt x="214" y="54"/>
                  <a:pt x="200" y="35"/>
                </a:cubicBezTo>
                <a:cubicBezTo>
                  <a:pt x="182" y="10"/>
                  <a:pt x="123" y="9"/>
                  <a:pt x="96" y="0"/>
                </a:cubicBezTo>
                <a:cubicBezTo>
                  <a:pt x="66" y="5"/>
                  <a:pt x="30" y="18"/>
                  <a:pt x="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4114800"/>
            <a:ext cx="22860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30680" y="4362480"/>
            <a:ext cx="441000" cy="276120"/>
          </a:xfrm>
          <a:custGeom>
            <a:avLst/>
            <a:gdLst/>
            <a:ahLst/>
            <a:rect l="l" t="t" r="r" b="b"/>
            <a:pathLst>
              <a:path w="278" h="174">
                <a:moveTo>
                  <a:pt x="278" y="9"/>
                </a:moveTo>
                <a:cubicBezTo>
                  <a:pt x="195" y="62"/>
                  <a:pt x="87" y="30"/>
                  <a:pt x="0" y="0"/>
                </a:cubicBezTo>
                <a:cubicBezTo>
                  <a:pt x="2" y="11"/>
                  <a:pt x="1" y="25"/>
                  <a:pt x="8" y="35"/>
                </a:cubicBezTo>
                <a:cubicBezTo>
                  <a:pt x="19" y="52"/>
                  <a:pt x="40" y="60"/>
                  <a:pt x="52" y="78"/>
                </a:cubicBezTo>
                <a:cubicBezTo>
                  <a:pt x="65" y="97"/>
                  <a:pt x="68" y="107"/>
                  <a:pt x="87" y="122"/>
                </a:cubicBezTo>
                <a:cubicBezTo>
                  <a:pt x="151" y="173"/>
                  <a:pt x="80" y="107"/>
                  <a:pt x="130" y="157"/>
                </a:cubicBezTo>
                <a:cubicBezTo>
                  <a:pt x="135" y="162"/>
                  <a:pt x="148" y="174"/>
                  <a:pt x="148" y="174"/>
                </a:cubicBezTo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20:29:19Z</dcterms:created>
  <dc:creator>Ryan  Sokoloff</dc:creator>
  <dc:description/>
  <dc:language>en-US</dc:language>
  <cp:lastModifiedBy>Ryan  Sokoloff</cp:lastModifiedBy>
  <dcterms:modified xsi:type="dcterms:W3CDTF">2009-01-21T21:07:45Z</dcterms:modified>
  <cp:revision>2</cp:revision>
  <dc:subject/>
  <dc:title>PowerPoint Presentation</dc:title>
</cp:coreProperties>
</file>