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3698-D238-493E-8AE0-51F8E821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F3B-CFD8-47F9-8EE0-A75F6250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BD7-F44C-4B41-AEF4-59327A2A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D254-3DE6-4DCE-8806-DB5CC542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F94-BF54-4247-B77D-E6B87F0C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D757-84F6-43AE-822E-8D62D65F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4B81-6586-469B-A620-51D13888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D788-93F7-4F18-B2E8-2AE2A672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33CE-ECA1-40D8-94A3-42FC0F36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4C6C-3332-4DA6-8139-513DA646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DEB-5DFD-4B8F-A153-63E36EFF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4B14-E54B-4D30-9626-DDD218B9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1636-9264-4565-8B6B-4F35A56F3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19520" y="30492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it 2- Ce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1066680"/>
            <a:ext cx="18288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Shawn Zh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en Sam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ie Sokolo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a Omelyanenk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2590920"/>
            <a:ext cx="3187440" cy="322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343400" y="5943600"/>
            <a:ext cx="206064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Animal Cells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410080" y="2362320"/>
            <a:ext cx="232092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Plant Cel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19320" y="1905120"/>
            <a:ext cx="152388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Marker Felt"/>
              </a:rPr>
              <a:t>Mitochondri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Marker Felt"/>
              <a:ea typeface="Marker Fel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791320" y="5181480"/>
            <a:ext cx="297468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Marker Felt"/>
              </a:rPr>
              <a:t>Flagell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Marker Felt"/>
              <a:ea typeface="Marker Fel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95280" y="5867280"/>
            <a:ext cx="178776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tosi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562720" y="4114800"/>
            <a:ext cx="265428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ctive Transpo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 rot="5400000">
            <a:off x="2933640" y="3161520"/>
            <a:ext cx="43801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Osmosi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57800" y="2666880"/>
            <a:ext cx="3540240" cy="139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Marker Felt"/>
              </a:rPr>
              <a:t>Prokaryote vs. Eukaryot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Marker Felt"/>
              <a:ea typeface="Marker Felt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12952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lasma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6019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cell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60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ell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886200"/>
            <a:ext cx="16765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809880"/>
            <a:ext cx="86976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4038480"/>
            <a:ext cx="86976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267080"/>
            <a:ext cx="86976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572000"/>
            <a:ext cx="87012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4114800"/>
            <a:ext cx="22860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30680" y="4362480"/>
            <a:ext cx="441000" cy="276120"/>
          </a:xfrm>
          <a:custGeom>
            <a:avLst/>
            <a:gdLst/>
            <a:ahLst/>
            <a:rect l="l" t="t" r="r" b="b"/>
            <a:pathLst>
              <a:path w="278" h="174">
                <a:moveTo>
                  <a:pt x="278" y="9"/>
                </a:moveTo>
                <a:cubicBezTo>
                  <a:pt x="195" y="62"/>
                  <a:pt x="87" y="30"/>
                  <a:pt x="0" y="0"/>
                </a:cubicBezTo>
                <a:cubicBezTo>
                  <a:pt x="2" y="11"/>
                  <a:pt x="1" y="25"/>
                  <a:pt x="8" y="35"/>
                </a:cubicBezTo>
                <a:cubicBezTo>
                  <a:pt x="19" y="52"/>
                  <a:pt x="40" y="60"/>
                  <a:pt x="52" y="78"/>
                </a:cubicBezTo>
                <a:cubicBezTo>
                  <a:pt x="65" y="97"/>
                  <a:pt x="68" y="107"/>
                  <a:pt x="87" y="122"/>
                </a:cubicBezTo>
                <a:cubicBezTo>
                  <a:pt x="151" y="173"/>
                  <a:pt x="80" y="107"/>
                  <a:pt x="130" y="157"/>
                </a:cubicBezTo>
                <a:cubicBezTo>
                  <a:pt x="135" y="162"/>
                  <a:pt x="148" y="174"/>
                  <a:pt x="148" y="174"/>
                </a:cubicBezTo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20:29:19Z</dcterms:created>
  <dc:creator>Ryan  Sokoloff</dc:creator>
  <dc:description/>
  <dc:language>en-US</dc:language>
  <cp:lastModifiedBy>Ryan  Sokoloff</cp:lastModifiedBy>
  <dcterms:modified xsi:type="dcterms:W3CDTF">2009-01-21T21:07:45Z</dcterms:modified>
  <cp:revision>2</cp:revision>
  <dc:subject/>
  <dc:title>PowerPoint Presentation</dc:title>
</cp:coreProperties>
</file>